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EEE-6DCE-49CF-9DC0-1DBAEB62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C6A-632A-4C8D-9D5E-5F00F4C6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F10-550F-4CB9-8B24-2D45B892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C77-DF6C-4975-B4A2-1F1E4057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C20-0009-4BA7-92BC-500BCC8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F97-504F-4E3D-A3FD-11C5E8C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CC8-7554-4DE3-8FB8-51B304A3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4E4-AF61-45AE-B8D1-E03AF588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DB9-0437-4919-B642-E12A25B7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4A0-31C6-46B3-9CA2-F87E641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D0B-8D61-4B81-995C-1203A96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3A8-57FE-4210-B8BA-1637CFC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D58-24A5-41C5-9056-4C9AEC645B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80D2-E7D5-45BD-A8CC-C43A5A9A5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4.xml"/><Relationship Id="rId19" Type="http://schemas.openxmlformats.org/officeDocument/2006/relationships/slide" Target="slide44.xml"/><Relationship Id="rId20" Type="http://schemas.openxmlformats.org/officeDocument/2006/relationships/slide" Target="slide48.xml"/><Relationship Id="rId21" Type="http://schemas.openxmlformats.org/officeDocument/2006/relationships/slide" Target="slide50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Stat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id,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 form of matter that has no shape or volume of its ow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a ga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4381560"/>
            <a:ext cx="3048120" cy="24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School desk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an example of a solid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Juice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54304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n example of a liqui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33680" cy="3468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n example of a ga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Times New Roman"/>
              </a:rPr>
              <a:t>Ice Cube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the solid form of water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ything that takes up space and has ma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water as a ga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e distance between two poi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length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 much space matter takes 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volume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The amount of matter in an objec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00"/>
                </a:solidFill>
                <a:latin typeface="Times New Roman"/>
              </a:rPr>
              <a:t>What is mas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nits of measurement used to measure length in the metric syste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are centimeters, meters, or millimet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matter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it of measurement used to measure volume in the metric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e li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wo or more kinds of matter that are put toget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y change in the size, shape, or form of mat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a physical chang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ny change in matter that produces a new kind 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chemical chang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cientific word meaning to gu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 hypothesi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Tiny pieces that make up all matte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items needed to perform an experi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are the material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harpening your penci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ce melting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 bicycle rus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n example of a harmful chemical chang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sing oil to make plastic spo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chem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What are particles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ouring juice from a round container into a square contain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 form of matter that has its own shape and volu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a solid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A form of matter that has its own volume but does not have a shape of its ow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Times New Roman"/>
              </a:rPr>
              <a:t>What is a liquid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NYCDOE</cp:lastModifiedBy>
  <dcterms:modified xsi:type="dcterms:W3CDTF">2010-03-09T20:40:27Z</dcterms:modified>
  <cp:revision>32</cp:revision>
  <dc:subject/>
  <dc:title>Blank Jeopardy</dc:title>
</cp:coreProperties>
</file>